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B6E-E403-47EB-B6B6-C6AC8037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379-7A37-4DE2-98E3-8592D68D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F9A-8901-40D5-B79A-42A5A076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F7C-D09A-4B8F-A676-24EAA339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521-51D2-48E9-960A-06C0D775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5B4-9AE4-4D0F-B783-25D8D67D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DF5-A6A0-42C8-B01F-EFFAA820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A4A-ECFB-41B9-899C-F7E66BD3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BEA0-02E1-4265-9FAC-6DBB0B42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A743-631A-4243-A8E6-3243DA1F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E49-C45D-4380-A46F-1025D28C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6C0-5D79-4376-851B-6C86C02A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CB9A-8F25-4311-8EFB-4AD1A86ABAD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roblems_with_dirty_oil_in_Madagascar" TargetMode="External"/><Relationship Id="rId2" Type="http://schemas.openxmlformats.org/officeDocument/2006/relationships/hyperlink" Target="http://eewiki.newint.org/index.php/Slavery_in_Mauritania" TargetMode="External"/><Relationship Id="rId3" Type="http://schemas.openxmlformats.org/officeDocument/2006/relationships/hyperlink" Target="http://eewiki.newint.org/index.php/Indonesians_won%27t_stop_fightin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518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How much do you know about the worl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98989"/>
                </a:solidFill>
                <a:latin typeface="Calibri"/>
              </a:rPr>
              <a:t>Decide a) which country, 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98989"/>
                </a:solidFill>
                <a:latin typeface="Calibri"/>
              </a:rPr>
              <a:t>b) which global justice iss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98989"/>
                </a:solidFill>
                <a:latin typeface="Calibri"/>
              </a:rPr>
              <a:t>for each of the pho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15840" y="260280"/>
            <a:ext cx="2976480" cy="187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020000" y="4033800"/>
            <a:ext cx="1893960" cy="2651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3247920" y="333360"/>
            <a:ext cx="3170520" cy="2014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4"/>
          <a:stretch/>
        </p:blipFill>
        <p:spPr>
          <a:xfrm>
            <a:off x="162000" y="4923000"/>
            <a:ext cx="2732040" cy="172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6539040" y="260280"/>
            <a:ext cx="242712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3780000" y="4925880"/>
            <a:ext cx="263844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3529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untries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413000"/>
            <a:ext cx="40402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dagasc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urit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ietn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n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0000" y="115560"/>
            <a:ext cx="48956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bal justice issu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00720" y="1413000"/>
            <a:ext cx="43192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il or fores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e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av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urism/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ri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447920" y="2440080"/>
            <a:ext cx="4109760" cy="261144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10" descr=""/>
          <p:cNvPicPr/>
          <p:nvPr/>
        </p:nvPicPr>
        <p:blipFill>
          <a:blip r:embed="rId2"/>
          <a:stretch/>
        </p:blipFill>
        <p:spPr>
          <a:xfrm>
            <a:off x="250920" y="144360"/>
            <a:ext cx="3531960" cy="223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5796000" y="2443320"/>
            <a:ext cx="2954160" cy="185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11160" y="3610080"/>
            <a:ext cx="2222280" cy="3111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5157720" y="4492800"/>
            <a:ext cx="3746520" cy="223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"/>
          <p:cNvPicPr/>
          <p:nvPr/>
        </p:nvPicPr>
        <p:blipFill>
          <a:blip r:embed="rId6"/>
          <a:stretch/>
        </p:blipFill>
        <p:spPr>
          <a:xfrm>
            <a:off x="5506920" y="144360"/>
            <a:ext cx="32432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50920" y="-100080"/>
            <a:ext cx="2376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92000" y="476280"/>
            <a:ext cx="7343640" cy="62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dagascar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© Ben Stansall/Alamy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il or fores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Read more: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Problems_with_dirty_oil_in_Madagasca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uritania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300td.org / Creative Commons Licence)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Read more: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ewiki.newint.org/index.php/Slavery_in_Mauritani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onesia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World Development Movement)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GB" sz="800" spc="-1" strike="noStrike">
                <a:solidFill>
                  <a:srgbClr val="000000"/>
                </a:solidFill>
                <a:latin typeface="Calibri"/>
              </a:rPr>
              <a:t>Read more: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eewiki.newint.org/index.php/Indonesians_won%27t_stop_figh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ietnam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Didem Tali)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urism/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Read more: http://eewiki.newint.org/index.php/%22The_beach_is_for_tourists%22_-_Vietnamese_workers_can%27t_enjoy_the_su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ia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Babu Babu / Reuters) </a:t>
            </a:r>
            <a:r>
              <a:rPr b="0" i="1" lang="en-GB" sz="3600" spc="-1" strike="noStrike">
                <a:solidFill>
                  <a:srgbClr val="000000"/>
                </a:solidFill>
                <a:latin typeface="Calibri"/>
              </a:rPr>
              <a:t>Inequa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Read more:  http://eewiki.newint.org/index.php/The_rich_in_Indi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Kenya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800" spc="-1" strike="noStrike">
                <a:solidFill>
                  <a:srgbClr val="000000"/>
                </a:solidFill>
                <a:latin typeface="Calibri"/>
              </a:rPr>
              <a:t>Socialstarclub.com under a Creative Commons Licence)  </a:t>
            </a:r>
            <a:r>
              <a:rPr b="0" i="1" lang="en-GB" sz="3600" spc="-1" strike="noStrike">
                <a:solidFill>
                  <a:srgbClr val="000000"/>
                </a:solidFill>
                <a:latin typeface="Calibri"/>
              </a:rPr>
              <a:t>Discrimin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Read more:  http://eewiki.newint.org/index.php/Women_with_disabilities_have_two_big_problems_%E2%80%93_their_disability_and_their_gend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4"/>
          <a:stretch/>
        </p:blipFill>
        <p:spPr>
          <a:xfrm>
            <a:off x="-42840" y="189000"/>
            <a:ext cx="1654200" cy="105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5"/>
          <a:stretch/>
        </p:blipFill>
        <p:spPr>
          <a:xfrm>
            <a:off x="0" y="1392120"/>
            <a:ext cx="1568520" cy="99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6"/>
          <a:stretch/>
        </p:blipFill>
        <p:spPr>
          <a:xfrm>
            <a:off x="49320" y="5661000"/>
            <a:ext cx="166536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7"/>
          <a:stretch/>
        </p:blipFill>
        <p:spPr>
          <a:xfrm>
            <a:off x="7812000" y="4548240"/>
            <a:ext cx="908280" cy="1271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8"/>
          <a:stretch/>
        </p:blipFill>
        <p:spPr>
          <a:xfrm>
            <a:off x="-144360" y="2492280"/>
            <a:ext cx="1874880" cy="1119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9"/>
          <a:stretch/>
        </p:blipFill>
        <p:spPr>
          <a:xfrm>
            <a:off x="-144360" y="3859200"/>
            <a:ext cx="18748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5T09:59:48Z</dcterms:created>
  <dc:creator>Linda Ruas</dc:creator>
  <dc:description/>
  <dc:language>en-US</dc:language>
  <cp:lastModifiedBy>Linda Ruas</cp:lastModifiedBy>
  <dcterms:modified xsi:type="dcterms:W3CDTF">2014-05-25T11:52:04Z</dcterms:modified>
  <cp:revision>14</cp:revision>
  <dc:subject/>
  <dc:title>Quiz about the world</dc:title>
</cp:coreProperties>
</file>